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4B9F-128E-411A-BF77-708192C1FA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Tune: x=9,2; y=3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Modell von Olaf Kopitetz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CCB-ADA4-461A-8A45-9B92696D40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A5E-7401-4677-A27C-54DB15D2B98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mplitude der einzelnen Peaks abhängig von den Störungen am jeweiligen Ort des BP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nd Peaks skalieren mit der Betafunktion am Ort des BP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L keine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EL: Natürliche Macropulse des Lasers. Pulsabstände in Abhängigkeit vom Strom. Bei uns jedoch langes Platea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rozess bricht frühzeitig ab, weil Kohärenzbedingungen für das Lasing nicht mehr gegeben s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F92C-BB2D-4A04-83FC-C32D3326D49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t) Regelgröß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m(t) Messw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(t) Führungsgröß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(t) Stellgröß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hi(s)=arctan(Im(G(s))/Re(G(s)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ruppenlaufzeit taug(o)=dPhi(i*o)/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hasenlaufzeit taup(o)=-Phi(i*o)/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Konstante Gruppenlaufzeit oder lineare Phasenlaufzeit = Verzerrungsfreies Sig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s)=G(s)*U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s)=S(s)*U(s)+D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(s)=R(s)*Ym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m(s)=M(s)*Y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ach Y(s)/D(s) auflösen ergibt: 1/(1 - S(s)*R(s)*M(s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 Spektralbereich bei linearen Systemen Änderung des Signals nur in Amplitude und Phase. Differentialgleichungen im Zeitbereich als algebraische Gleichungen im Spektralbere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Y(s)(an*s^n+a1*s+a0)=U(s)(bq*s^q+b1*s+b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(s)=Y(s)/U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q&lt;=n: Kausale Syst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eitinvarianz: Konstante Koeffizienten bei der D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05C0-FCDC-41A2-B8EC-F30696F674C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Zeitabhängigkeit und Übersteuern erklären. Begrenzte Steigungs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656D-96EB-47EF-90B1-80D6ED8BF71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Responsematrix aufnehmen (jeden Korrektor auslenken), ergibt eine Zeile in der nicht invertierten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Für jeden Korrektor ausfüh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Überbestimmtes Gleichungssystem, Singulärwertzerlegung, Beste Approximation im Sinne kleinster Fehlerquad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=U S V^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^(-1) = V S^T U^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0971-E753-44DF-8B38-2C4A1F6B84F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2CF-E442-4D8C-B6EC-81674617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384-174C-4BE2-8E0C-309BEA0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834-4D63-40C9-892A-0ADA47B5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4FF-B202-4463-AD34-4B29E54F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AB1-EDF3-4DC1-8483-10BE12F8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E016-89A2-4447-9EE2-A685066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6A9E-2AD8-4F96-9A80-8812CD6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4D2B-9E32-40B3-A98E-72AE438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A0F0-3CE7-4EFB-B6D1-B0939DC0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6C8-9648-4263-9EFA-AC3D436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2792-D1F9-48B7-80EF-87CEDDBC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0DC-C123-4DCF-A777-8CE31ABD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97C-71E3-44F8-B2D9-0847D9D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580F-53B1-4C21-BCB9-D0E468E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D223-D446-4251-8369-1CE3084B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AD5B-D47E-4FDE-A1BB-97895371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3098-025B-4B62-BCEE-1EC1C8AA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46B-D6A7-462D-A7A5-CC00EF7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405-A588-49E5-BC6B-9676F95A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947-EC27-427F-A9DF-280895B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07172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265-E69F-4BAA-A146-43AC1E5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2DA-CD17-44E3-92DD-60DFDFB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0E3-005F-4BE9-84FF-13479584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3F8-DE6C-46BC-B74E-95846A0D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E69A-8D40-491D-BAEE-922FCDBD7B3A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C:\Dokumente und Einstellungen\Locutus\Desktop\TULogo\TU_logo_farbig\lo_TU-Do 2008\logo_rgb_jpg\tud_logo_rgb.jpg"/>
          <p:cNvPicPr/>
          <p:nvPr/>
        </p:nvPicPr>
        <p:blipFill>
          <a:blip r:embed="rId2"/>
          <a:stretch/>
        </p:blipFill>
        <p:spPr>
          <a:xfrm>
            <a:off x="500040" y="357120"/>
            <a:ext cx="3000240" cy="48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Y:\Programming\FPGA\xilinx\fpga\patryk\final\diplomarbeit\Poster\delta-logo2.png"/>
          <p:cNvPicPr/>
          <p:nvPr/>
        </p:nvPicPr>
        <p:blipFill>
          <a:blip r:embed="rId3"/>
          <a:stretch/>
        </p:blipFill>
        <p:spPr>
          <a:xfrm>
            <a:off x="7715160" y="214200"/>
            <a:ext cx="963720" cy="7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kumente und Einstellungen\Locutus\Desktop\TULogo\TU_logo_farbig\lo_TU-Do 2008\logo_rgb_jpg\tud_logo_rgb.jpg"/>
          <p:cNvPicPr/>
          <p:nvPr/>
        </p:nvPicPr>
        <p:blipFill>
          <a:blip r:embed="rId2"/>
          <a:stretch/>
        </p:blipFill>
        <p:spPr>
          <a:xfrm>
            <a:off x="500040" y="357120"/>
            <a:ext cx="300024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Y:\Programming\FPGA\xilinx\fpga\patryk\final\diplomarbeit\Poster\delta-logo2.png"/>
          <p:cNvPicPr/>
          <p:nvPr/>
        </p:nvPicPr>
        <p:blipFill>
          <a:blip r:embed="rId3"/>
          <a:stretch/>
        </p:blipFill>
        <p:spPr>
          <a:xfrm>
            <a:off x="7715160" y="214200"/>
            <a:ext cx="963720" cy="71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Y:\Diplomarbeit_kopiert_bis_auf_groß\Ausarbeitung\Grafiken\delta_aussen.jpg"/>
          <p:cNvPicPr/>
          <p:nvPr/>
        </p:nvPicPr>
        <p:blipFill>
          <a:blip r:embed="rId4"/>
          <a:stretch/>
        </p:blipFill>
        <p:spPr>
          <a:xfrm>
            <a:off x="-714240" y="-214200"/>
            <a:ext cx="11852280" cy="7072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8CF3-0626-4495-ACD6-B668AF2D166F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chnelle Orbitkorrektursyst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trag im Rahmen d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llaborationstreffens am 27.11.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7375e"/>
                </a:solidFill>
                <a:latin typeface="Calibri"/>
              </a:rPr>
              <a:t>Patryk Tow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as Programm „RING Explorer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2285640"/>
            <a:ext cx="81154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rmöglicht bei bekannter Optik und bei Kenntnis der freien Stellen für den Magneteinbau die Optimierung der Position und Stärke der Korrekurmagn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muliert die Auswirkungen der Orbitkorrektur und erlaubt eine direkte Einschätzung der Nichtlokalität der Korrektur, die sich abhängig von der Position der Korrektoren und BPMs einstel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9325-044B-43FB-8F0B-B2387408BF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Y:\Promotion\Timeline\2009 11 27 Projekttreffen GSI Darmstadt\regui.emf"/>
          <p:cNvPicPr/>
          <p:nvPr/>
        </p:nvPicPr>
        <p:blipFill>
          <a:blip r:embed="rId1"/>
          <a:stretch/>
        </p:blipFill>
        <p:spPr>
          <a:xfrm>
            <a:off x="2030400" y="2097000"/>
            <a:ext cx="52056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Zusammenfass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ledig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Prototypen für Spulen bestellt (DELTA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Programm zur Berechnung der Korrektorstärken und -positionen „RING Explorer“ erstell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Noch zu tu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AD8 COSY Modell funktionsfähig (danke an Raimund Tölle et.al.), aber Konverter für MATLAB Accelerator Toolbox muss noch fertiggestellt wer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Weiterentwicklung des CST STUDIO Modell der Spulen (mit Eisenjo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Danke: Gerrit Schünemann, Peter Hartmann, Olaf Kopitetzki und Holger Hu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4DA-9873-4036-9CEC-187897A7CC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Inhal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285640"/>
            <a:ext cx="5614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utzen einer schnellen Orbitkorrekt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rrektursyst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bau und Performance der schnellen lokalen Orbitkorrektur an DEL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orbereitungen für die schnelle 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global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Orbitkorrektur an DELTA, COSY und SIS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Das Programm „RING Explorer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fass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D446-3F2A-4D2A-B713-B537CBC233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ußzeilenplatzhalt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Motivation der schnellen Orbitkorrekt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4400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m Delta Speicherring wurde an 7 schnellen BPMs das Spektrum der Strahlschwingungen ermitte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ispiel: Vertikal an BPM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Störungen von 50Hz und deren Harmonisch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agnetträgerschwingun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Störungen während der Booster-Ramp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250Hz Störung des F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=&gt; Entscheidung zum Aufbau einer schnellen Orbitkorrekt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1085-E6B1-45AE-BC97-56BBBEE33A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Y:\Promotion\Timeline\2009 11 27 Projekttreffen GSI Darmstadt\typical_beam_motion.wmf"/>
          <p:cNvPicPr/>
          <p:nvPr/>
        </p:nvPicPr>
        <p:blipFill>
          <a:blip r:embed="rId1"/>
          <a:stretch/>
        </p:blipFill>
        <p:spPr>
          <a:xfrm>
            <a:off x="4743360" y="2743200"/>
            <a:ext cx="4168800" cy="3017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Y:\Promotion\Timeline\2009 11 27 Projekttreffen GSI Darmstadt\felmacropulse.jpg"/>
          <p:cNvPicPr/>
          <p:nvPr/>
        </p:nvPicPr>
        <p:blipFill>
          <a:blip r:embed="rId2"/>
          <a:stretch/>
        </p:blipFill>
        <p:spPr>
          <a:xfrm>
            <a:off x="4529160" y="3333600"/>
            <a:ext cx="3902040" cy="2689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Dokumente und Einstellungen\Locutus\Desktop\bpm_pos.wmf"/>
          <p:cNvPicPr/>
          <p:nvPr/>
        </p:nvPicPr>
        <p:blipFill>
          <a:blip r:embed="rId3"/>
          <a:stretch/>
        </p:blipFill>
        <p:spPr>
          <a:xfrm>
            <a:off x="5168880" y="3597120"/>
            <a:ext cx="367020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Korrektursyste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gelkreis, Grundlage: Lineare, zeitinvariante Syst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eschreibung mit Hilfe von Übertragungsfunktionen im komplexen Spektralbereich (Laplace-Transformation). Faltung des Signals mit Sinus- und Exponentialfunktio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örübertragungsfunk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0E5-EA6D-4B92-ABEA-70FBC2C2B8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Y:\Promotion\Timeline\2009 11 27 Projekttreffen GSI Darmstadt\regelkreis.wmf"/>
          <p:cNvPicPr/>
          <p:nvPr/>
        </p:nvPicPr>
        <p:blipFill>
          <a:blip r:embed="rId1"/>
          <a:stretch/>
        </p:blipFill>
        <p:spPr>
          <a:xfrm>
            <a:off x="928800" y="4429080"/>
            <a:ext cx="5808600" cy="165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3643200"/>
            <a:ext cx="287352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286240" y="4357800"/>
            <a:ext cx="16430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imulation der schnellen lokalen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stimmung der Übertragungsfunktionen von Vakuumkammer, Netzteilen und Magn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mulation mit MATLAB Simu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FBBE-463D-4966-BC4C-238D7A3408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Y:\Promotion\Timeline\2009 11 27 Projekttreffen GSI Darmstadt\simulink_aufbau.wmf"/>
          <p:cNvPicPr/>
          <p:nvPr/>
        </p:nvPicPr>
        <p:blipFill>
          <a:blip r:embed="rId1"/>
          <a:stretch/>
        </p:blipFill>
        <p:spPr>
          <a:xfrm>
            <a:off x="523800" y="3670200"/>
            <a:ext cx="6510240" cy="2621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Y:\Promotion\Timeline\2009 11 27 Projekttreffen GSI Darmstadt\simulink_simulation.wmf"/>
          <p:cNvPicPr/>
          <p:nvPr/>
        </p:nvPicPr>
        <p:blipFill>
          <a:blip r:embed="rId2"/>
          <a:stretch/>
        </p:blipFill>
        <p:spPr>
          <a:xfrm>
            <a:off x="4529160" y="311040"/>
            <a:ext cx="4322880" cy="638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kumente und Einstellungen\Locutus\Desktop\vk_frequenzgang.wmf"/>
          <p:cNvPicPr/>
          <p:nvPr/>
        </p:nvPicPr>
        <p:blipFill>
          <a:blip r:embed="rId3"/>
          <a:stretch/>
        </p:blipFill>
        <p:spPr>
          <a:xfrm>
            <a:off x="4383000" y="3382920"/>
            <a:ext cx="43401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Aufbau und Funktionsweise der schnellen lokalen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5640"/>
            <a:ext cx="4186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gebaut im Bereich des F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orrektur mit Hilfe der S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Y:\Promotion\Timeline\2009 11 27 Projekttreffen GSI Darmstadt\delta.wmf"/>
          <p:cNvPicPr/>
          <p:nvPr/>
        </p:nvPicPr>
        <p:blipFill>
          <a:blip r:embed="rId1"/>
          <a:stretch/>
        </p:blipFill>
        <p:spPr>
          <a:xfrm>
            <a:off x="1857240" y="3000240"/>
            <a:ext cx="5353200" cy="3156120"/>
          </a:xfrm>
          <a:prstGeom prst="rect">
            <a:avLst/>
          </a:prstGeom>
          <a:ln w="0">
            <a:noFill/>
          </a:ln>
        </p:spPr>
      </p:pic>
      <p:sp>
        <p:nvSpPr>
          <p:cNvPr id="129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9DCA-855C-46C6-AAB0-A4BD5D9536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Y:\Promotion\Timeline\2009 11 27 Projekttreffen GSI Darmstadt\korr_bpm_feedback.wmf"/>
          <p:cNvPicPr/>
          <p:nvPr/>
        </p:nvPicPr>
        <p:blipFill>
          <a:blip r:embed="rId2"/>
          <a:stretch/>
        </p:blipFill>
        <p:spPr>
          <a:xfrm>
            <a:off x="1243080" y="3816360"/>
            <a:ext cx="6589800" cy="251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kumente und Einstellungen\Locutus\Desktop\svd.wmf"/>
          <p:cNvPicPr/>
          <p:nvPr/>
        </p:nvPicPr>
        <p:blipFill>
          <a:blip r:embed="rId3"/>
          <a:stretch/>
        </p:blipFill>
        <p:spPr>
          <a:xfrm>
            <a:off x="2309760" y="3243240"/>
            <a:ext cx="3713040" cy="3108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000760" y="4643280"/>
            <a:ext cx="947520" cy="324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5072040" y="3429000"/>
            <a:ext cx="787320" cy="282600"/>
          </a:xfrm>
          <a:prstGeom prst="rect">
            <a:avLst/>
          </a:prstGeom>
          <a:ln w="0">
            <a:noFill/>
          </a:ln>
        </p:spPr>
      </p:pic>
      <p:sp>
        <p:nvSpPr>
          <p:cNvPr id="136" name="Textfeld 14"/>
          <p:cNvSpPr/>
          <p:nvPr/>
        </p:nvSpPr>
        <p:spPr>
          <a:xfrm>
            <a:off x="6000840" y="528624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x: Or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: Korrektorstär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: Response-Matr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uppieren 20"/>
          <p:cNvGrpSpPr/>
          <p:nvPr/>
        </p:nvGrpSpPr>
        <p:grpSpPr>
          <a:xfrm>
            <a:off x="642960" y="2928960"/>
            <a:ext cx="6429240" cy="1947960"/>
            <a:chOff x="642960" y="2928960"/>
            <a:chExt cx="6429240" cy="1947960"/>
          </a:xfrm>
        </p:grpSpPr>
        <p:pic>
          <p:nvPicPr>
            <p:cNvPr id="138" name="Picture 4" descr="C:\Dokumente und Einstellungen\Locutus\Desktop\fban.wmf"/>
            <p:cNvPicPr/>
            <p:nvPr/>
          </p:nvPicPr>
          <p:blipFill>
            <a:blip r:embed="rId1"/>
            <a:stretch/>
          </p:blipFill>
          <p:spPr>
            <a:xfrm>
              <a:off x="4160520" y="2928960"/>
              <a:ext cx="2911680" cy="19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C:\Dokumente und Einstellungen\Locutus\Desktop\fbaus.wmf"/>
            <p:cNvPicPr/>
            <p:nvPr/>
          </p:nvPicPr>
          <p:blipFill>
            <a:blip r:embed="rId2"/>
            <a:stretch/>
          </p:blipFill>
          <p:spPr>
            <a:xfrm>
              <a:off x="642960" y="2928960"/>
              <a:ext cx="294696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Ellipse 16"/>
            <p:cNvSpPr/>
            <p:nvPr/>
          </p:nvSpPr>
          <p:spPr>
            <a:xfrm>
              <a:off x="4617720" y="3991320"/>
              <a:ext cx="896040" cy="765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feld 13"/>
            <p:cNvSpPr/>
            <p:nvPr/>
          </p:nvSpPr>
          <p:spPr>
            <a:xfrm>
              <a:off x="2205000" y="3162240"/>
              <a:ext cx="130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Feedback a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feld 12"/>
            <p:cNvSpPr/>
            <p:nvPr/>
          </p:nvSpPr>
          <p:spPr>
            <a:xfrm>
              <a:off x="5582880" y="3162240"/>
              <a:ext cx="117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alibri"/>
                </a:rPr>
                <a:t>Feedback 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Ellipse 17"/>
            <p:cNvSpPr/>
            <p:nvPr/>
          </p:nvSpPr>
          <p:spPr>
            <a:xfrm>
              <a:off x="1101960" y="3034800"/>
              <a:ext cx="896040" cy="1594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Performance der schnellen lokalen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ei einer Frequenz von 50Hz konnte eine Dämpfung von          -20dB  erreicht werden. Dies entspricht einer Reduktion auf 1/100 der ursprünglichen Leistung. Grenzfrequenz: 350H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3504-EF54-4FDC-A1E2-4DBDEBB28A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Y:\Promotion\Timeline\2009 11 27 Projekttreffen GSI Darmstadt\feedback_compare.wmf"/>
          <p:cNvPicPr/>
          <p:nvPr/>
        </p:nvPicPr>
        <p:blipFill>
          <a:blip r:embed="rId3"/>
          <a:stretch/>
        </p:blipFill>
        <p:spPr>
          <a:xfrm>
            <a:off x="1884240" y="2170080"/>
            <a:ext cx="2962440" cy="2219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Y:\Promotion\Timeline\2009 11 27 Projekttreffen GSI Darmstadt\xup_magnitude_bpm14_bpm15.wmf"/>
          <p:cNvPicPr/>
          <p:nvPr/>
        </p:nvPicPr>
        <p:blipFill>
          <a:blip r:embed="rId4"/>
          <a:stretch/>
        </p:blipFill>
        <p:spPr>
          <a:xfrm>
            <a:off x="5529240" y="2170080"/>
            <a:ext cx="30178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erausforderungen beim Aufbau der schnellen globalen Orbitkorrekt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5640"/>
            <a:ext cx="44719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zeit werden vertikale Korrektoren (mit Eisenjoch) verwendet: B=12mT u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=0,3mrad bei I=10A; L=28c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Nur wenige freie Stellen für neue Magnete vorhanden, aber 9 freie Stellen ca. 10cm Läng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nforderungen an neue Korrektoren: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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0,1mrad bei L=10cm (als Luftspu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910-0E78-4DF5-83E6-95642E7D52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Y:\Promotion\Timeline\2009 11 27 Projekttreffen GSI Darmstadt\fofbkorr.jpg"/>
          <p:cNvPicPr/>
          <p:nvPr/>
        </p:nvPicPr>
        <p:blipFill>
          <a:blip r:embed="rId1"/>
          <a:stretch/>
        </p:blipFill>
        <p:spPr>
          <a:xfrm>
            <a:off x="4992840" y="2206800"/>
            <a:ext cx="3870000" cy="2609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kumente und Einstellungen\Locutus\Desktop\fofbkorrzoom.jpg"/>
          <p:cNvPicPr/>
          <p:nvPr/>
        </p:nvPicPr>
        <p:blipFill>
          <a:blip r:embed="rId2"/>
          <a:stretch/>
        </p:blipFill>
        <p:spPr>
          <a:xfrm>
            <a:off x="4883040" y="3743280"/>
            <a:ext cx="2071800" cy="1719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Y:\Promotion\Timeline\2009 11 27 Projekttreffen GSI Darmstadt\fofbfreikurz.jpg"/>
          <p:cNvPicPr/>
          <p:nvPr/>
        </p:nvPicPr>
        <p:blipFill>
          <a:blip r:embed="rId3"/>
          <a:stretch/>
        </p:blipFill>
        <p:spPr>
          <a:xfrm>
            <a:off x="4780080" y="3560760"/>
            <a:ext cx="36446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Neue Korrektoren für die schnelle globale Orbitkorrektur an DE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228564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rste Simulationen der neuen Magnete mit CST MICROWAVE STUDIO (links: vertikal, rechts: horizont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27.11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Patryk Towals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BF19-F7F1-4015-9035-85C6F4811A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Y:\Promotion\Timeline\2009 11 27 Projekttreffen GSI Darmstadt\hkf.jpg"/>
          <p:cNvPicPr/>
          <p:nvPr/>
        </p:nvPicPr>
        <p:blipFill>
          <a:blip r:embed="rId1"/>
          <a:stretch/>
        </p:blipFill>
        <p:spPr>
          <a:xfrm>
            <a:off x="4456080" y="3597120"/>
            <a:ext cx="4260960" cy="2644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Y:\Promotion\Timeline\2009 11 27 Projekttreffen GSI Darmstadt\vkf.jpg"/>
          <p:cNvPicPr/>
          <p:nvPr/>
        </p:nvPicPr>
        <p:blipFill>
          <a:blip r:embed="rId2"/>
          <a:stretch/>
        </p:blipFill>
        <p:spPr>
          <a:xfrm>
            <a:off x="743040" y="3170160"/>
            <a:ext cx="45180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42:51Z</dcterms:created>
  <dc:creator> </dc:creator>
  <dc:description/>
  <dc:language>en-US</dc:language>
  <cp:lastModifiedBy>Forck</cp:lastModifiedBy>
  <dcterms:modified xsi:type="dcterms:W3CDTF">2009-12-03T13:50:44Z</dcterms:modified>
  <cp:revision>303</cp:revision>
  <dc:subject/>
  <dc:title>Folie 1</dc:title>
</cp:coreProperties>
</file>